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4AB9-9E37-43E7-9342-F06A373B0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A7AB-9A78-43AF-80C6-94C982CFA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5927-8F91-4F9F-A8A8-AD7CFC69B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FFB5-57B9-438C-ABC5-1850D8BF9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5E7-E0C5-4BD3-9FB9-490EF894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A45-BF87-4581-ABF7-9D2AEAD2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787B-195D-4B6B-889D-16B0D851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97C-4E23-420D-AFCB-3ED1BCAF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F0D-AE26-4CCF-A216-2642303B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7D2-60C0-45FA-B384-86A65FAD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52E-2B24-40E0-A4DE-D9E48B84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945F-51C6-4EEA-8F32-ED960605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82FA-CDDF-44E8-BA64-0DCD7BB6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F328-1DB8-413A-98EE-B8802C05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02D-A96F-4A72-8ABB-FE62692E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0F10-6B05-4ADE-A6CD-AB87D1BA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8380-7C67-4942-BAB7-97D14A5A9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919080" y="1386000"/>
            <a:ext cx="730584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2"/>
          <p:cNvSpPr/>
          <p:nvPr/>
        </p:nvSpPr>
        <p:spPr>
          <a:xfrm>
            <a:off x="639720" y="37339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92" descr=""/>
          <p:cNvPicPr/>
          <p:nvPr/>
        </p:nvPicPr>
        <p:blipFill>
          <a:blip r:embed="rId1"/>
          <a:stretch/>
        </p:blipFill>
        <p:spPr>
          <a:xfrm>
            <a:off x="1252440" y="622440"/>
            <a:ext cx="6639120" cy="3143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93"/>
          <p:cNvSpPr/>
          <p:nvPr/>
        </p:nvSpPr>
        <p:spPr>
          <a:xfrm>
            <a:off x="639720" y="11541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820800" y="4191120"/>
          <a:ext cx="7637400" cy="1828800"/>
        </p:xfrm>
        <a:graphic>
          <a:graphicData uri="http://schemas.openxmlformats.org/drawingml/2006/table">
            <a:tbl>
              <a:tblPr/>
              <a:tblGrid>
                <a:gridCol w="587160"/>
                <a:gridCol w="587520"/>
                <a:gridCol w="611280"/>
                <a:gridCol w="539640"/>
                <a:gridCol w="608040"/>
                <a:gridCol w="598320"/>
                <a:gridCol w="555840"/>
                <a:gridCol w="627120"/>
                <a:gridCol w="604800"/>
                <a:gridCol w="515880"/>
                <a:gridCol w="609480"/>
                <a:gridCol w="594000"/>
                <a:gridCol w="598320"/>
              </a:tblGrid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2M/CD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2M/GO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5"/>
          <p:cNvGrpSpPr/>
          <p:nvPr/>
        </p:nvGrpSpPr>
        <p:grpSpPr>
          <a:xfrm>
            <a:off x="1857240" y="1266840"/>
            <a:ext cx="5486400" cy="4178160"/>
            <a:chOff x="1857240" y="1266840"/>
            <a:chExt cx="5486400" cy="4178160"/>
          </a:xfrm>
        </p:grpSpPr>
        <p:sp>
          <p:nvSpPr>
            <p:cNvPr id="57" name="AutoShape 6"/>
            <p:cNvSpPr/>
            <p:nvPr/>
          </p:nvSpPr>
          <p:spPr>
            <a:xfrm>
              <a:off x="1857240" y="1266840"/>
              <a:ext cx="5486400" cy="41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7" descr="PIKA-11 PCR, 2007-08-07"/>
            <p:cNvPicPr/>
            <p:nvPr/>
          </p:nvPicPr>
          <p:blipFill>
            <a:blip r:embed="rId1"/>
            <a:stretch/>
          </p:blipFill>
          <p:spPr>
            <a:xfrm>
              <a:off x="1857240" y="1266840"/>
              <a:ext cx="5486400" cy="41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8"/>
            <p:cNvSpPr/>
            <p:nvPr/>
          </p:nvSpPr>
          <p:spPr>
            <a:xfrm>
              <a:off x="2414520" y="1685160"/>
              <a:ext cx="5580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100b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9"/>
            <p:cNvSpPr/>
            <p:nvPr/>
          </p:nvSpPr>
          <p:spPr>
            <a:xfrm>
              <a:off x="3112560" y="1685160"/>
              <a:ext cx="62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0"/>
            <p:cNvSpPr/>
            <p:nvPr/>
          </p:nvSpPr>
          <p:spPr>
            <a:xfrm>
              <a:off x="3879360" y="1685160"/>
              <a:ext cx="6969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dip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4855680" y="1685160"/>
              <a:ext cx="4183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2"/>
            <p:cNvSpPr/>
            <p:nvPr/>
          </p:nvSpPr>
          <p:spPr>
            <a:xfrm>
              <a:off x="5622840" y="1685160"/>
              <a:ext cx="5572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D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6111000" y="3567600"/>
              <a:ext cx="5572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100b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2414520" y="3567600"/>
              <a:ext cx="5580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100b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5"/>
            <p:cNvSpPr/>
            <p:nvPr/>
          </p:nvSpPr>
          <p:spPr>
            <a:xfrm>
              <a:off x="6111000" y="1685160"/>
              <a:ext cx="5572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100b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6528960" y="1685160"/>
              <a:ext cx="5580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1Kb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>
              <a:off x="6528960" y="3567600"/>
              <a:ext cx="5580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1Kb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8"/>
            <p:cNvSpPr/>
            <p:nvPr/>
          </p:nvSpPr>
          <p:spPr>
            <a:xfrm>
              <a:off x="3042360" y="3567600"/>
              <a:ext cx="62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9"/>
            <p:cNvSpPr/>
            <p:nvPr/>
          </p:nvSpPr>
          <p:spPr>
            <a:xfrm>
              <a:off x="3879360" y="3567600"/>
              <a:ext cx="6969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dip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0"/>
            <p:cNvSpPr/>
            <p:nvPr/>
          </p:nvSpPr>
          <p:spPr>
            <a:xfrm>
              <a:off x="4855680" y="3567600"/>
              <a:ext cx="4183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P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5622840" y="3567600"/>
              <a:ext cx="5572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AD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2"/>
            <p:cNvSpPr/>
            <p:nvPr/>
          </p:nvSpPr>
          <p:spPr>
            <a:xfrm>
              <a:off x="4158360" y="1406160"/>
              <a:ext cx="11156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2M/CD7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23"/>
            <p:cNvSpPr/>
            <p:nvPr/>
          </p:nvSpPr>
          <p:spPr>
            <a:xfrm>
              <a:off x="4158360" y="3358080"/>
              <a:ext cx="11854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B2M/FAB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4"/>
            <p:cNvSpPr/>
            <p:nvPr/>
          </p:nvSpPr>
          <p:spPr>
            <a:xfrm>
              <a:off x="5545800" y="4547880"/>
              <a:ext cx="660960" cy="11412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5"/>
            <p:cNvSpPr/>
            <p:nvPr/>
          </p:nvSpPr>
          <p:spPr>
            <a:xfrm>
              <a:off x="3470040" y="2599200"/>
              <a:ext cx="282600" cy="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6"/>
            <p:cNvSpPr/>
            <p:nvPr/>
          </p:nvSpPr>
          <p:spPr>
            <a:xfrm>
              <a:off x="3470040" y="2695320"/>
              <a:ext cx="282600" cy="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27"/>
            <p:cNvSpPr/>
            <p:nvPr/>
          </p:nvSpPr>
          <p:spPr>
            <a:xfrm>
              <a:off x="3006360" y="2453400"/>
              <a:ext cx="528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CD7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28"/>
            <p:cNvSpPr/>
            <p:nvPr/>
          </p:nvSpPr>
          <p:spPr>
            <a:xfrm>
              <a:off x="3006360" y="2599920"/>
              <a:ext cx="528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B2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9"/>
            <p:cNvSpPr/>
            <p:nvPr/>
          </p:nvSpPr>
          <p:spPr>
            <a:xfrm>
              <a:off x="3470040" y="4542120"/>
              <a:ext cx="282600" cy="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0"/>
            <p:cNvSpPr/>
            <p:nvPr/>
          </p:nvSpPr>
          <p:spPr>
            <a:xfrm>
              <a:off x="3470040" y="4631760"/>
              <a:ext cx="282600" cy="3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1"/>
            <p:cNvSpPr/>
            <p:nvPr/>
          </p:nvSpPr>
          <p:spPr>
            <a:xfrm>
              <a:off x="3006360" y="4396320"/>
              <a:ext cx="528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B2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2"/>
            <p:cNvSpPr/>
            <p:nvPr/>
          </p:nvSpPr>
          <p:spPr>
            <a:xfrm>
              <a:off x="2885760" y="4536360"/>
              <a:ext cx="6494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cc00"/>
                  </a:solidFill>
                  <a:latin typeface="Arial"/>
                </a:rPr>
                <a:t>FABP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3"/>
            <p:cNvSpPr/>
            <p:nvPr/>
          </p:nvSpPr>
          <p:spPr>
            <a:xfrm>
              <a:off x="3841560" y="4554360"/>
              <a:ext cx="660960" cy="11412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08:18:28Z</dcterms:created>
  <dc:creator>shayne.boucher</dc:creator>
  <dc:description/>
  <dc:language>en-US</dc:language>
  <cp:lastModifiedBy>Meghan Harnois</cp:lastModifiedBy>
  <dcterms:modified xsi:type="dcterms:W3CDTF">2010-07-12T20:18:46Z</dcterms:modified>
  <cp:revision>3</cp:revision>
  <dc:subject/>
  <dc:title>Figure 1</dc:title>
</cp:coreProperties>
</file>